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3269-7430-4C98-9A95-519348EDD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4AC3-75F9-4AD0-96E3-44709D671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DCD8-DB21-49C0-89F0-71FC8256D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5672-8149-4F81-821F-E1D8064C0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DA53-C376-4CD2-872C-B4EB4D7AE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AC9D-74F8-479D-A11A-EC97FDD13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B479-A471-46C1-B146-EB480CFD1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7B8C-5102-4910-AA51-A524AD700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C274-89D0-4656-BBE2-8EB5E6DA4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8DF9-2551-4051-A1CA-2B5CBBFA8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7AF8-B51D-4FA5-A91C-048B2CE13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56E8-0A34-4C6C-8087-6C5777BC4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6A07-5246-40CD-9320-410EC5C16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DBE-5574-4D60-BFF4-14B7E4F2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00FC-B692-45DA-9BFD-B1C37C68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A050-2ED8-47A5-B6DA-0948E233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5DC-CB0D-4423-B317-09D0A4BE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450B-7A2A-491B-8FEC-D6EC4CB7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151-1C6C-4BE1-9A21-9F61EAB2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2E5-9091-4DFB-A0FA-A0712208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61B-F7DB-43BB-9615-1704C254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057-92C5-4A6B-9B7F-7489AEFC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9346-015D-4E54-8E8D-7B0FB487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417-C582-44BA-A4BE-A6126A41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850-3610-438C-9B41-17AF8FDA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809E-0BDA-43E0-BDC2-160135A98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JackOLantern"/>
          <p:cNvPicPr/>
          <p:nvPr/>
        </p:nvPicPr>
        <p:blipFill>
          <a:blip r:embed="rId1"/>
          <a:stretch/>
        </p:blipFill>
        <p:spPr>
          <a:xfrm>
            <a:off x="-1219320" y="-228600"/>
            <a:ext cx="11582640" cy="8686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52388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umpkin Carving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What are the important outcomes for your graduates?  Create 1 or 2 (Learning Targe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What will it look like when your graduates have achieved these outcomes?  (Evide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give them a chance to demonstrate their achievement?  Is anyone excluded or disadvantaged by this method?  (Assessm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52280" y="20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entine Creation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28960" cy="548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rcRect l="3544" t="1353" r="5262" b="2702"/>
          <a:stretch/>
        </p:blipFill>
        <p:spPr>
          <a:xfrm>
            <a:off x="380880" y="990720"/>
            <a:ext cx="3962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What are the important outcomes for your graduates?  Create 1 or 2 (Learning Targe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What will it look like when your graduates have achieved these outcomes?  (Evide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How will you give them a chance to demonstrate their achievement?  (Assessm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distinguish different levels of achievement and give feedback? (Scoring Guid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90920" y="5029200"/>
          <a:ext cx="6095880" cy="16509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5"/>
          <p:cNvSpPr/>
          <p:nvPr/>
        </p:nvSpPr>
        <p:spPr>
          <a:xfrm>
            <a:off x="152280" y="20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entine Creation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28960" cy="5486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rcRect l="3544" t="1353" r="5262" b="2702"/>
          <a:stretch/>
        </p:blipFill>
        <p:spPr>
          <a:xfrm>
            <a:off x="380880" y="990720"/>
            <a:ext cx="3962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52280" y="2016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entine Creation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 the important outcomes for your graduates?  Create 1 or 2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earning Targe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will it look like when your graduates have achieved these outcomes? 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vide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will you give them a chance to demonstrate their achievement? 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ssess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will you distinguish different levels of achievement and give feedback?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coring Gui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90920" y="5029200"/>
          <a:ext cx="6095880" cy="16509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90" name="Picture 8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28960" cy="5486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2"/>
          <a:srcRect l="3544" t="1353" r="5262" b="2702"/>
          <a:stretch/>
        </p:blipFill>
        <p:spPr>
          <a:xfrm>
            <a:off x="380880" y="990720"/>
            <a:ext cx="3962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151560" y="201600"/>
            <a:ext cx="32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ster Eg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on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225000" y="201600"/>
            <a:ext cx="579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ster Egg Creation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990720"/>
            <a:ext cx="7772400" cy="4647960"/>
          </a:xfrm>
          <a:prstGeom prst="rect">
            <a:avLst/>
          </a:prstGeom>
          <a:solidFill>
            <a:srgbClr val="cccc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 the important outcomes for your graduates?  Create 1 or 2 (Learning Targe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will it look like when your graduates have achieved these outcomes?  (Evide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will you give them a chance to demonstrate their achievement?  (Assessm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will you distinguish different levels of achievement and give feedback? (Scoring Guid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743200" y="5130720"/>
          <a:ext cx="6095880" cy="16509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JackOLanter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important outcomes for your graduates?  Create 1 or 2 of these and classify them as facts, concepts, skills or dispositions.   (Learning Targe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2280" y="20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mpkin Carving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JackOLanter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What are the important outcomes for your graduates?  Create 1 or 2.  (Learning Targe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ill it look like when your graduates have achieved these outcomes?  Describe the behaviors that would tell you that the target has been met.  (Evide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52280" y="20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mpkin Carving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JackOLanter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What are the important outcomes for your graduates?  Create 1 or 2 (Learning Targe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What will it look like when your graduates have achieved these outcomes?  (Evide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give them a chance to demonstrate their achievement?  Is anyone excluded or disadvantaged by this method?  (Assessm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2280" y="20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mpkin Carving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JackOLanter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What are the important outcomes for your graduates?  Create 1 or 2 (Learning Targe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What will it look like when your graduates have achieved these outcomes?  (Evide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How will you give them a chance to demonstrate their achievement?  (Assessm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distinguish different levels of achievement and give feedback? (Scoring Guid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52280" y="20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mpkin Carving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90920" y="5029200"/>
          <a:ext cx="6095880" cy="16509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JackOLanter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important outcomes for your graduates?  Create 1 or 2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Learning Targe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ill it look like when your graduates have achieved these outcomes? 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vide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give them a chance to demonstrate their achievement? 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Assess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you distinguish different levels of achievement and give feedback?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coring Gui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2280" y="20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mpkin Carving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90920" y="5029200"/>
          <a:ext cx="6095880" cy="16509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28960" cy="5486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2"/>
          <a:srcRect l="3544" t="1352" r="5261" b="2702"/>
          <a:stretch/>
        </p:blipFill>
        <p:spPr>
          <a:xfrm>
            <a:off x="380880" y="990720"/>
            <a:ext cx="3962520" cy="5410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52280" y="20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entine Creation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28960" cy="5486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rcRect l="3544" t="1353" r="5262" b="2702"/>
          <a:stretch/>
        </p:blipFill>
        <p:spPr>
          <a:xfrm>
            <a:off x="380880" y="990720"/>
            <a:ext cx="3962520" cy="54100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important outcomes for your graduates?  Create 1 or 2 of these and classify them as facts, concepts, skills or dispositions.   (Learning Targe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52280" y="20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entine Creation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3352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What are the important outcomes for your graduates?  Create 1 or 2.  (Learning Targe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ill it look like when your graduates have achieved these outcomes?  Describe the behaviors that would tell you that the target has been met.  (Evide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52280" y="20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entine Creation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28960" cy="5486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2"/>
          <a:srcRect l="3544" t="1353" r="5262" b="2702"/>
          <a:stretch/>
        </p:blipFill>
        <p:spPr>
          <a:xfrm>
            <a:off x="380880" y="990720"/>
            <a:ext cx="3962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15:51:48Z</dcterms:created>
  <dc:creator>Mark Roddy</dc:creator>
  <dc:description/>
  <dc:language>en-US</dc:language>
  <cp:lastModifiedBy>Roddy, Mark</cp:lastModifiedBy>
  <dcterms:modified xsi:type="dcterms:W3CDTF">2017-09-25T22:52:35Z</dcterms:modified>
  <cp:revision>17</cp:revision>
  <dc:subject/>
  <dc:title>PowerPoint Presentation</dc:title>
</cp:coreProperties>
</file>